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E9AC-74B3-497F-A57C-430484F55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BA58-7971-498D-898D-56354272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3038-6D7B-45D1-862B-F8B829FAD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B230-4661-428B-9D86-0DD41D0A1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1CFA-54E1-4B0B-9649-DBC92859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DF78-9A70-49E9-AE25-B8488A4E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3374-B2EA-4BBC-9736-BCC810C0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8EA4-CE82-4AC6-9D00-C886111B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908C-0342-46BB-A727-35BE2B4A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D783-2BC4-458F-BE56-A7B5FAA2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E598-3D37-483F-8CDE-118DFC50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43E6-2049-4454-A893-81D4F817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GB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GB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GB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7B2BD423-A10C-4251-BB94-7CA5E79B4B27}" type="slidenum">
              <a:rPr b="0" lang="en-GB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223880" y="1936800"/>
            <a:ext cx="4241880" cy="6624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 ingredients into bowl and weigh off cold water into ju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together into bow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x the ingredients thoroughly on slow speed for 30 seconds using a dough hoo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rape sides of bow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x for 15 seconds on second spe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 off flav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to mixed dough, and on slow speed mix thoroughly th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over m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p onto floured bench and gently round up till a smooth surfa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knead or be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t for 10 min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n / roll out dough gently till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 reach your plate size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out 1cm thick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n / roll out round if using a round cutter to cut down on rework scone dou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work equals tougher sc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work scrape gently, rest before cutting avoid doing this step more than once if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y up evenly, rest for 5 min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ke at  210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°C -220°C for 15-20min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3880" y="2008080"/>
            <a:ext cx="1512720" cy="1192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79520" y="2008080"/>
            <a:ext cx="1513080" cy="1211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55160" y="496800"/>
            <a:ext cx="7705800" cy="1279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cone Perfection</a:t>
            </a:r>
            <a:br>
              <a:rPr sz="4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Best Practice for perfect scone making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23880" y="3305160"/>
            <a:ext cx="1512720" cy="1222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279520" y="3305160"/>
            <a:ext cx="1513080" cy="1208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5"/>
          <a:srcRect l="9455" t="0" r="0" b="0"/>
          <a:stretch/>
        </p:blipFill>
        <p:spPr>
          <a:xfrm>
            <a:off x="623880" y="4600440"/>
            <a:ext cx="1512720" cy="1152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23880" y="5824440"/>
            <a:ext cx="1512720" cy="1224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2279520" y="4600440"/>
            <a:ext cx="1513080" cy="1152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2279520" y="5824440"/>
            <a:ext cx="1513080" cy="1224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623880" y="7192800"/>
            <a:ext cx="1512720" cy="1295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2279520" y="7192800"/>
            <a:ext cx="1513080" cy="1297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3" name="Picture 19" descr=""/>
          <p:cNvPicPr/>
          <p:nvPr/>
        </p:nvPicPr>
        <p:blipFill>
          <a:blip r:embed="rId11"/>
          <a:stretch/>
        </p:blipFill>
        <p:spPr>
          <a:xfrm>
            <a:off x="2279520" y="11514240"/>
            <a:ext cx="4896000" cy="55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79520" y="8848800"/>
          <a:ext cx="8066160" cy="1493640"/>
        </p:xfrm>
        <a:graphic>
          <a:graphicData uri="http://schemas.openxmlformats.org/drawingml/2006/table">
            <a:tbl>
              <a:tblPr/>
              <a:tblGrid>
                <a:gridCol w="1805040"/>
                <a:gridCol w="1015920"/>
                <a:gridCol w="852480"/>
                <a:gridCol w="1295280"/>
                <a:gridCol w="905040"/>
                <a:gridCol w="895320"/>
                <a:gridCol w="1297080"/>
              </a:tblGrid>
              <a:tr h="67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ne Reci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es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ese &amp; On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lt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nach &amp; Fe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O SCONE MI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0 &amp; 0.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0 &amp; 0.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18:36:13Z</dcterms:created>
  <dc:creator>aitkens</dc:creator>
  <dc:description/>
  <dc:language>en-US</dc:language>
  <cp:lastModifiedBy>lewisp</cp:lastModifiedBy>
  <dcterms:modified xsi:type="dcterms:W3CDTF">2013-03-25T21:27:40Z</dcterms:modified>
  <cp:revision>5</cp:revision>
  <dc:subject/>
  <dc:title>Slide 1</dc:title>
</cp:coreProperties>
</file>